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211-20AE-4B58-8425-0360A6AF9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4653-4BB5-426F-8A16-C7D52044E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7CC-BCE4-493B-86AB-636F777C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C7B-C25D-4B6C-B00B-E43D248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11D-A01D-48EF-9C15-3DBA84EF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B72-3BF4-4C6F-9B64-E919DD23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7682-D3BC-4AD5-A6AE-54C3484E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E4CD-2B8C-4382-AF42-D961823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0B8-9F81-4133-9CD9-BA5D0532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D963-B0CA-497B-B0E3-AD7338A0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67F-BEBD-4663-8033-F5708FA9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478-8E71-4C9B-8181-3F4EC4A8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36F0-2CDA-437E-B264-50272377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14A-660B-4DAF-A30C-13471C41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F05-6B88-44FA-A5E1-D1C0152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03FE-7F7C-46F2-9531-EED3D77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6D3A-B5C5-4754-BEAD-7DD8BFC6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0F1A-1D68-441B-A721-BC37B2E4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A598-DD29-42D3-915B-5053B350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AB0D-F420-446F-AF7A-3F94B762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2255-F7C7-46A7-B7F7-5526693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AD6C-9421-4B6E-930A-30468CCA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CA3F-3DD1-4784-ADD1-09A4C3F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3697-8763-4D1A-B515-B472EA2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21B-CCFC-4CD6-9B4B-09FEBC1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0B24-C8BD-4A73-B915-933ED2F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F65E-3AEF-4769-8123-9A7E81D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8ADF-FB67-41E3-9CC9-BFA2C1F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457D-F251-4B80-8371-0FF2F3E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7D6C-437C-4C41-A07A-FCFA7D6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B79B-72B1-48A5-88B0-8C74366E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4934-7779-48B3-BACA-2C402D47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7BBCA-CFDD-41BA-9E95-C93750B4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C35F-4161-4285-8FAE-830B627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782E-987D-4885-B0F1-0C598B3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103-4755-4F15-A06C-C9F790A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A1F4-0B31-489B-B851-BD9A4B5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6693-6BC5-4A07-9506-C521064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E4B4-90A2-4C2C-BB87-6A74748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54AD-8036-4175-B63E-37917CD0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B72B-0AB4-4293-976D-EB77DC0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7B2E-9911-4309-9F20-0454B08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C7A9-6C7B-4BDF-949B-1493A578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7941-F147-4C21-8800-7A19FAB6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0747-05AC-4073-BD44-BDFCB75E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97A-3945-456C-872E-AAE5428E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CA5-5C70-4348-9372-717098FF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AF2-D8F4-4401-8627-3FD853A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DDF-AE70-48F2-8247-E5081BA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80E-9F48-44C1-9594-D1B7F44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35D-D026-4F2D-B391-EBE6A765F44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A42-C3BA-443C-9CBE-CC34510EF5B7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D11-E4F3-4206-8B1C-BD08717828B2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A25-9F22-4F84-9445-FF10AAC8BEA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5486400" y="44956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андер А. Э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Сыктывкар, 2010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ый прое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се красивое над нашими голова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4" descr=""/>
          <p:cNvPicPr/>
          <p:nvPr/>
        </p:nvPicPr>
        <p:blipFill>
          <a:blip r:embed="rId1"/>
          <a:stretch/>
        </p:blipFill>
        <p:spPr>
          <a:xfrm>
            <a:off x="384120" y="573120"/>
            <a:ext cx="8375760" cy="1365120"/>
          </a:xfrm>
          <a:prstGeom prst="rect">
            <a:avLst/>
          </a:prstGeom>
          <a:ln w="0">
            <a:noFill/>
          </a:ln>
        </p:spPr>
      </p:pic>
      <p:grpSp>
        <p:nvGrpSpPr>
          <p:cNvPr id="205" name="TextBox 5"/>
          <p:cNvGrpSpPr/>
          <p:nvPr/>
        </p:nvGrpSpPr>
        <p:grpSpPr>
          <a:xfrm>
            <a:off x="262080" y="1962000"/>
            <a:ext cx="8516880" cy="5992920"/>
            <a:chOff x="262080" y="1962000"/>
            <a:chExt cx="8516880" cy="5992920"/>
          </a:xfrm>
        </p:grpSpPr>
        <p:pic>
          <p:nvPicPr>
            <p:cNvPr id="206" name="TextBox 5" descr=""/>
            <p:cNvPicPr/>
            <p:nvPr/>
          </p:nvPicPr>
          <p:blipFill>
            <a:blip r:embed="rId2"/>
            <a:stretch/>
          </p:blipFill>
          <p:spPr>
            <a:xfrm>
              <a:off x="262080" y="1962000"/>
              <a:ext cx="8516880" cy="59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" y="2057400"/>
              <a:ext cx="8229600" cy="57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роблемный вопрос</a:t>
              </a:r>
              <a:r>
                <a:rPr b="0" lang="en-US" sz="2800" spc="-1" strike="noStrike">
                  <a:solidFill>
                    <a:srgbClr val="0070c0"/>
                  </a:solidFill>
                  <a:latin typeface="Verdana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небо голубо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у радуги 7 цветов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дно в озере кажется ближе, чем оно на самом дел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река светится на солнц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Основопологающий вопрос</a:t>
              </a:r>
              <a:r>
                <a:rPr b="0" lang="en-US" sz="2800" spc="-1" strike="noStrike">
                  <a:solidFill>
                    <a:srgbClr val="0070c0"/>
                  </a:solidFill>
                  <a:latin typeface="Verdana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Стоит ли верить своим глазам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949120"/>
            <a:ext cx="822960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ся различать оптические явления в природе с помощью наблюд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ся проводить опыты для выявления тех или иных оптических явлений в приро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ие природные явления связаны с геометрической оптикой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Ход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ходе проекта учащиеся разделятся на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нятия проходят в виде бесед и проведения опытов и наблюд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онце каждого занятия подводятся итоги и делается общий вывод по занят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4" descr=""/>
          <p:cNvPicPr/>
          <p:nvPr/>
        </p:nvPicPr>
        <p:blipFill>
          <a:blip r:embed="rId1"/>
          <a:stretch/>
        </p:blipFill>
        <p:spPr>
          <a:xfrm>
            <a:off x="360360" y="2279520"/>
            <a:ext cx="8265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Шандер</cp:lastModifiedBy>
  <dcterms:modified xsi:type="dcterms:W3CDTF">2010-06-07T12:35:0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